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2D69-2C69-4246-8339-D8FADD91F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3492-3E1B-4AAF-B939-6370126D0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3DD9-1DF2-40F5-8B63-28FA23650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1BA6-D4E1-48D4-BABC-BDDEBDFAF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753FF-7424-4744-8ECB-EDAC67EB4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594B4-A215-4A3D-8BD0-B5A167A38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68D0C-081B-4B78-BC38-A0CE1BD38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2684F-9ADE-4232-A668-597D7F773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04D48-4438-44AD-967D-064562D8A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DBED9-9B1D-419A-B2EC-6CE18A1CA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8FA22-5411-4F51-B777-0D0F3BF81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84E8-FCDD-4754-9D12-95E70139C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8A5A0-9CA8-4EF0-879C-552006901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7E792-A9FE-4A41-B80B-E4F9CDC0A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FCFB9-8080-40B7-A39C-BF033A81B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517F5-4850-47A6-9A43-E72D0F06A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1104E-058C-467A-9E5E-B4C219BB3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B17C-E022-4BDE-97EF-34D78A272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DDB5-8055-4D26-A99D-99F77010F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6490-2AA4-464B-873D-5A0095816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7509-427A-4624-9C78-56A57A070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86DA-93D8-408F-8E74-3FA4BACCA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A3CB-8553-4347-A55C-D89B34419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3D65-6C3B-4786-B383-AD22950C8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0437E-2DFE-44DE-BBEA-F160AD6F16F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6629A-0CCE-4992-B9B8-732264CF6DB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lecture.eingang.org/pascaline.html" TargetMode="External"/><Relationship Id="rId2" Type="http://schemas.openxmlformats.org/officeDocument/2006/relationships/hyperlink" Target="http://www.thocp.net/hardware/pascaline.htm" TargetMode="External"/><Relationship Id="rId3" Type="http://schemas.openxmlformats.org/officeDocument/2006/relationships/hyperlink" Target="http://www.computermuseum.li/Testpage/Pascaline-Calculator-1642.htm" TargetMode="External"/><Relationship Id="rId4" Type="http://schemas.openxmlformats.org/officeDocument/2006/relationships/hyperlink" Target="http://www.britannica.com/EBchecked/topic/725527/Pascaline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Pascaline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rs. Wi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The First Mechcanical Calculator:"/>
          <p:cNvPicPr/>
          <p:nvPr/>
        </p:nvPicPr>
        <p:blipFill>
          <a:blip r:embed="rId1"/>
          <a:stretch/>
        </p:blipFill>
        <p:spPr>
          <a:xfrm>
            <a:off x="152280" y="3048120"/>
            <a:ext cx="4734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ictur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57200" y="2313000"/>
            <a:ext cx="3351240" cy="21319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495680" y="2387520"/>
            <a:ext cx="4038840" cy="20401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685800" y="45720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al Pascaline can be found in a museum in Par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495680" y="4648320"/>
            <a:ext cx="39625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caline as show by Encyclopedia Britann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ascaline: Created B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laise Pascal (1623-1662) of Fr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about 1642, Pascal developed a calculator called the Arithmatique or Pascaline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scal's interest in calculating was thought to come from a desire to help his father with his job as Superintendent of Taxe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ascaline: Purpos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e of the worlds first adding machin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velops a machine to calculate with 8 figures and carrying of 10's , 100's, and 1000's etc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scal's device used a series of toothed wheels, which were turned by hand and which could handle numbers up to 999,999.999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uld do only addition or subtrac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redi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http://lecture.eingang.org/pascaline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http://www.thocp.net/hardware/pascaline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7e9ce8"/>
                </a:solidFill>
                <a:uFillTx/>
                <a:latin typeface="Arial"/>
                <a:hlinkClick r:id="rId3"/>
              </a:rPr>
              <a:t>http://www.computermuseum.li/Testpage/Pascaline-Calculator-1642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7e9ce8"/>
                </a:solidFill>
                <a:uFillTx/>
                <a:latin typeface="Arial"/>
                <a:hlinkClick r:id="rId4"/>
              </a:rPr>
              <a:t>http://www.britannica.com/EBchecked/topic/725527/Pasca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4T17:57:04Z</dcterms:created>
  <dc:creator>wiesel</dc:creator>
  <dc:description/>
  <dc:language>en-US</dc:language>
  <cp:lastModifiedBy>wiesel</cp:lastModifiedBy>
  <dcterms:modified xsi:type="dcterms:W3CDTF">2010-08-24T18:46:00Z</dcterms:modified>
  <cp:revision>6</cp:revision>
  <dc:subject/>
  <dc:title>Slide 1</dc:title>
</cp:coreProperties>
</file>